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660-F5BC-4309-A600-7565F2F5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143-0632-4FF1-8347-B728C484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258-CE93-4295-B81F-A2ECA206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8C3-D922-4B12-98C0-DCAAE559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809-4922-4BE2-A213-057CBBBA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A9B-618E-4100-BB05-6E72C22D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F98-208F-45ED-AF50-A4F9DDE8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E77-FCE6-4270-A238-1E74BD41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11B-78C6-4F5A-87CC-D1571BC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EE9-2818-4464-9CA8-2B3178A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A2A-2670-4CF6-A049-F9CD4B0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D93-8CD2-4928-9C61-BA25265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9ECA-D715-4CB4-9D59-F9631A636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Tools.com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earch Indexing Robo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 File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ge is testing whether search indexing robots follow URL links to PowerPoint .ppt files, and whether the indexer recognizes text in these fil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earch for the unique keyword below and find this page, the search engine robot follows these links and indexes this text. 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rch Unique Keyword: RTest, RTestGood, RTestGood16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lso searchable keywords in the document Properties (test 146). Search for that unique keyword to see if properties  are indexed as wel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information, see &lt;http://www.searchtools.com/test/&gt;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4:08:32Z</dcterms:created>
  <dc:creator>Avi Rappoport</dc:creator>
  <dc:description/>
  <cp:keywords>RTest RTestGood RTestGood163</cp:keywords>
  <dc:language>en-US</dc:language>
  <cp:lastModifiedBy>Avi Rappoport</cp:lastModifiedBy>
  <dcterms:modified xsi:type="dcterms:W3CDTF">1999-10-16T04:12:41Z</dcterms:modified>
  <cp:revision>3</cp:revision>
  <dc:subject>Robot &amp; Indexer Testing</dc:subject>
  <dc:title>Indexing PowerPoint Documents</dc:title>
</cp:coreProperties>
</file>